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6A3-FB68-4581-A2F3-AF6521489C48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17B-F913-43CF-B8F4-70EFCBEA5158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8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1" name="Group 59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2" name="Line 60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3" name="Line 61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" name="Arc 62"/>
            <p:cNvSpPr/>
            <p:nvPr/>
          </p:nvSpPr>
          <p:spPr>
            <a:xfrm flipH="1">
              <a:off x="511920" y="1415880"/>
              <a:ext cx="192960" cy="19296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7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44" name="Group 58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5" name="Line 59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6" name="Line 60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7" name="Line 61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8" name="Arc 62"/>
            <p:cNvSpPr/>
            <p:nvPr/>
          </p:nvSpPr>
          <p:spPr>
            <a:xfrm flipH="1" rot="16200000">
              <a:off x="675360" y="136620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grpSp>
        <p:nvGrpSpPr>
          <p:cNvPr id="49" name="Group 63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0" name="Line 64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1" name="Line 65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2" name="Arc 66"/>
            <p:cNvSpPr/>
            <p:nvPr/>
          </p:nvSpPr>
          <p:spPr>
            <a:xfrm rot="5400000">
              <a:off x="8090640" y="531252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99836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АСТАВНА ЈЕДИНИЦ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13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: </a:t>
            </a:r>
            <a:br>
              <a:rPr sz="2400"/>
            </a:br>
            <a:r>
              <a:rPr b="1" lang="ru-RU" sz="4000" spc="-1" strike="noStrike">
                <a:solidFill>
                  <a:srgbClr val="003d62"/>
                </a:solidFill>
                <a:latin typeface="Calibri"/>
              </a:rPr>
              <a:t>Дозирање и избор лекова код трудница и дојиља </a:t>
            </a:r>
            <a:r>
              <a:rPr b="1" lang="ru-RU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1103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ФАРМ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Предмет: Фармакокинетик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Драган Миловановић</a:t>
            </a:r>
            <a:endParaRPr b="0" lang="en-US" sz="18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Наташа Ђорђевић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628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рН вредност крви у трудноћи је незнатно повећана на 7,44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компензације респираторне алкалозе, која се јавља због смањеног парцијалног притиска СО2 проузрокованог дејством прогестеро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довести до измена везивања лекова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Укупна концентрација протеина плазме се не мења, али је концентрација албумина око 20-30% м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смањене синтезе или повећаног клиренса албуми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</a:t>
            </a:r>
            <a:r>
              <a:rPr b="0" lang="el-GR" sz="20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1-гликопротеин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je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мерено до незнатно смањен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1628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д лекова чији клиренс је лимитиран везивањем за протеине плазме (већина лекова који се у виском проценту везују за протеине плазме), због смањења концентрације албумина повећава се слободна фракција и последично смањује укупна концентрација лека; међутим, концентрација слободног лека се не мења, па укупан ефекат остаје непромењен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процену дозирања, у трудноћи треба мерити концентрацију слободног 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колико се и концентрација слободног лека смањи, то је последица повећања интраваскуларног волумена и/или клирен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окрвљеност јетре се током трудноће не м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оценат минутног волумена срца који иде у јетру је мањи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а око 35% пада на око 30%), али је укупна количина крви која пролази кроз јетру (услед повећања минутног волумена срца) непромење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инутни волумен срца расте током трудноћ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 трећем триместру је 30-50% већи него ван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етаболизам леков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омене су махом узроковане изменама у хормонском статусу: у трудноћи је ниво прогестерона до 5 пута већи, а ниво естрадиола чак и до 250 пута већи у односу на период ван трудноћ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Активност ензим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1A2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2 пута мања у другом, а 3 пута мања у трећем триместр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смање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1A2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активности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3.5814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x 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GA+ 0.0495 x GA</a:t>
            </a:r>
            <a:r>
              <a:rPr b="1" lang="nb-NO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A (gestational age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деља трудноће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3A4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већ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повећа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3А4 активности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2.9826 x GA- 0.0741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Активност ензим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D6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у трудноћи зависи од генотипа: смањује се код спорих, а повећава код екстензивних метаболиз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повећа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2D6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активности код екстензивних метаболизера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2.2695 x GA-0.0348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C9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UG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већа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C19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NAT2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мања у трудноћ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излучивањ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оком трудноће расте прокрвљеност бубрег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ед крај трудноће 2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0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% минутног волумена срца иде у бубрег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инутни волумен срца у трећем триместру је до 50% већи него ван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рзина гломеруларне филтрације расте током трудноће и максимум достиже пред порођај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повећане прокрвљености бубрег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лек који се елиминише неметаболисан преко бубрега, просечна концентрација у крви под истим дозним режимом током трудноће може бити мања и до 50%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убуларна реапсорпција се у трудноћи не м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излучивањ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лиренс креатинина, као показатељ бубрежне функције, у трудноћи се повећава и пред крај трудноће већи је за око 25%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проценити на основу познате вредности клиренса креатинина пре трудноће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0" lang="en-US" sz="2200" spc="-1" strike="noStrike" baseline="-25000">
                <a:solidFill>
                  <a:srgbClr val="003d62"/>
                </a:solidFill>
                <a:latin typeface="Calibri"/>
              </a:rPr>
              <a:t>CR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CR</a:t>
            </a:r>
            <a:r>
              <a:rPr b="1" lang="sr-RS" sz="2200" spc="-1" strike="noStrike" baseline="-25000">
                <a:solidFill>
                  <a:srgbClr val="003d62"/>
                </a:solidFill>
                <a:latin typeface="Calibri"/>
              </a:rPr>
              <a:t>р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(ml/min)</a:t>
            </a:r>
            <a:r>
              <a:rPr b="1" lang="sr-C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CR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+ 3,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9107 x GA - 0,0789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A (gestational age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едеља трудноћ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током и после порођаја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оком порођај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инутни волумен срца се повећава, проток крви кроз мишиће и плаценту се смањује, гастроинтестинална активност престаје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сле порођај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већан минутни волумен, смањена концентрација албумина и повећана гломеруларна филтрација задржавају се до 12 недеља након порођа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змењена активност метаболишућих ензима враћа се у нормалу нагло унутар прва 24 сата после порођаја, или постепено у току првих пар месец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териндивидуална варијабилност у постпарталном периоду израженија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je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него инач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коро сви лекови је пролазе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 пролазе само молекули већи од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1000 Da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нпр хепарин, инсулин, прота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јбоље пролазе липосолубилни, нејонизовани и лекови који се слабо везују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еки лекови се у ткиву фетуса нагомилав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лабе базе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ion trapping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’’) - због ниж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крви фетуса (7,3) у односу на крв мајке (7,44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који се везују за протеине фету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који имају афинитет за инфлукс транспортере на плаценталној баријери – нпр. гентамиц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 плаценталној баријери налазе се и ефлукс транспортер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gp, MRP, BCRP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ипови дистрибуције лекова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мплетна – лекови се брзо дистрибуирају кроз плаценту и изједначавају концентрације у крви фетуса и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тиопентал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јачана – лекови постижу веће концентрације у крви фетуса него у крви мајк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кет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комплетна – лекови слабо пролазе плаценту и концентрација у крви фетуса остаје нижа него у крви мајк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укцинилхол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ханизми дистрибуције лекова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фузија – најчешћи начин прено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лакшана дифузија - нпр. цефалоспорини и гликокортикоид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ктивни транспорт - нпр. норадреналин и допа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Тем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едавањ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ка лекова у трудноћ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Улога плаценте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етална фармакокинетик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ка лекова у лактациј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СИР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озирање и избор лекова код трудница и дојиља.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Вежб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чка израчунавања код трудница и дојиља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Саветовање пацијенат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иликом проласка кроз плаценту неки лекови се метаболишу (ефекат првог пролаз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у плаценти на крају трудноће активни су </a:t>
            </a:r>
            <a:r>
              <a:rPr b="0" lang="pt-BR" sz="2200" spc="-1" strike="noStrike">
                <a:solidFill>
                  <a:srgbClr val="003d62"/>
                </a:solidFill>
                <a:latin typeface="Calibri"/>
              </a:rPr>
              <a:t>CYP1A1, CYP2E1, CYP3A4, CYP3A5, CYP3A7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и </a:t>
            </a:r>
            <a:r>
              <a:rPr b="0" lang="pt-BR" sz="2200" spc="-1" strike="noStrike">
                <a:solidFill>
                  <a:srgbClr val="003d62"/>
                </a:solidFill>
                <a:latin typeface="Calibri"/>
              </a:rPr>
              <a:t>CYP4B1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ли и нек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UG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ензим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ивои ензима обично су много нижи него код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остали лекови преко умбиликалне вене улазе или у јетру (нови ефекат првог пролаза) или директно у срце преко 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ductus venosus-a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етус, плацента и амнионска течност сматрају се феталним одељк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Calibri"/>
              </a:rPr>
              <a:t>Фетална фармакокинети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сорп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виси од плацен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 трећем триместру транспорт кроз плаценту је повећан као последица повећања утероплацентног и фетоплацентног протока, повећања површине плаценте и истањења плацентне баријер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у равнотежном стању концентрација лека у феталној крви достиже 50-100% концентрације у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истрибу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концентрација албумина у феталној крви расте током трудоће и пред крај достиже вредности које су до 20% веће у односу на вредности у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</a:t>
            </a:r>
            <a:r>
              <a:rPr b="0" lang="el-GR" sz="20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1-гликопротеина током трудноће опада, па приликом примене лекова који се за њих везују долази до пораста слободне фракције у феталној крв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Calibri"/>
              </a:rPr>
              <a:t>Фетална фармакокинети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640"/>
            <a:ext cx="845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аболиза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ензимски процеси постају активни тек око 7-8. недеље трудноће, и нижи су у односу на мајчине, па успорени клиренс лекова може довести до њихове акумул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а самом почетку се одвијају екстрахепатично (у феталном надбубрегу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ед крај трудноће достижу 30-60% активности одраслог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јважнији метаболишући ензим код фетуса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3A7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активност ензима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је значајно мањ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Излучива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сновни начин је дифузија кроз плаценту у мајчин крвоток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тежан је метаболизмом, јер поларни метаболити теже дифундују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поларне супстанце се излучују преко бубрега у амнионску течн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проток крви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роз бубреге </a:t>
            </a: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је мали и овакво излучивање је мање изражено и спорије него код одраслих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гутањем плодове воде тако излучени лекови се реапсорбују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99"/>
                </a:solidFill>
                <a:latin typeface="Calibri"/>
              </a:rPr>
              <a:t>Моделирање плацентног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трансфера </a:t>
            </a:r>
            <a:r>
              <a:rPr b="0" lang="sr-Latn-CS" sz="3600" spc="-1" strike="noStrike">
                <a:solidFill>
                  <a:srgbClr val="006699"/>
                </a:solidFill>
                <a:latin typeface="Calibri"/>
              </a:rPr>
              <a:t>и фетална изложеност л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ековима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У зависности од физичко-хемијских својстава лека, такође значајно варира између врс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Гестацијске промене у физиологији мајке које утичу на диспозицију леко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омене које се јављају у физиологији плацент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омене у диспозицији и клиренсу лекова у фетусу током времен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Изложеност лековима у трудноћи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812960"/>
          <a:ext cx="8229600" cy="420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већа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промење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Инфликсимаб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Еноксапар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еторолак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евотирокс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инезолид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оксифлоксац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Оселтамивир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Флуоксет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далимумаб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моксицил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Бупренорф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опинавир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етронидаз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Ондансетро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арацетам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Сертрал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Принципи дозирања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Уобичајени поступак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Примењена доза се обично заснива на препорученој дози за мушкарце или жене изван трудноће у комбинацији са проценом клиничар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Механицистички поступак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изајнирање одговарајућих протокола дозирањ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чки модел заснован на физиологији </a:t>
            </a: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(PBPK)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Кретања лекова у телу до физиолошки реалистичне структуре одељака користећи скупове диференцијалних једначин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изиолошки параметр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ременски различите промене у телесној тежини мајке, појединачном волумену органа / протоку крви, минутном волуменз, брзини гломеруларне филтрације и активностима ензима који метаболишу лекове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) 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Параметри специфични за лек (нпр. физи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чко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-хемијска својства и карактеристике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н 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витро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метаболизма / транспорт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каз случа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рудница с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а хроничном хипертензијом, која је наставила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а 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узима 50 мг два пута дневно орални метопролол пре и током трудноће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јавља се с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а повишеним крвним притиском (&gt; 150/100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ммХг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 почетку 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трећ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ег триместра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Њен крвни прити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к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 у првом и другом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риместру је био добро контролисан и износио је, 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у просеку 110/70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ммХг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опунска дијагностика је искључила додатне поремећаје као што су прееклампсија и други узроци погоршања хипертенз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Разматрају се могућности повећања дозе метопролола или замена неким другим лек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онета је одлука да се доза метопролола постепено повећа до 150 мг три пута дневно.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Крвни притисак јој се нормализовао, трудноћа се наставила и рођено је здраво де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ва месеца након порођаја, доза је враћена у дозу пре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каз (2)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армакогенети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опролол се метаболише путем цитохром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450 (CYP) 2D6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D6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ктивност расте почев од раног другог триместра и наставља се како трудноћа напреду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лонидин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S-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етопролол, карведилол, пропранолол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о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7%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људи у САД су ултрабрзи метаболизери, а у популацији у Азији и до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45%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(мултипликација гена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лиренс многих лекова се у трудноћи повећа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ење концентрације лека у кр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Лекови и лактаци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Епидемиолошке студије указују да већина жена током периода дојења узима лекова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65.9%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-88.7%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Најчешће коришћени леко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налгетици, антибиотици, витамини, суплементи гвожђа, лаксативи, пробиотици, препарати у слободној продаји (ОТЦ) са или без лекова на рецеп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тенцијални проблеми нису ретк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ришћење лекова са вероватним штетним дејством на одојче (11.3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тенцијално неадекватна доза (4.5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треба за праћењем одојчета због потенцијалног ризика од нежељених дејстава лека (3.6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значај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мена лекова у трудноћи често је неопходна, како због саме трудноће, тако и због болести мајке које захтевају лече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њује се да у развијеним земљама 80% трудница узима бар један лек (прописан или </a:t>
            </a:r>
            <a:r>
              <a:rPr b="0" i="1" lang="sr-RS" sz="2000" spc="-1" strike="noStrike">
                <a:solidFill>
                  <a:srgbClr val="003d62"/>
                </a:solidFill>
                <a:latin typeface="Calibri"/>
              </a:rPr>
              <a:t>о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ver-the-counter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бог страха од тератогености и фетотоксичности, лекови се често не примењују довољно дуго и у довољној доз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оза и дозни режим увелико зависе од фармакокинетике лек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рудноћа мења анатомију и физиологију жене, а тиме у великој мери и фармакокинетику леко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екстраполација фармакокинетских података добијених студијама на женама ван трудноће често није прихватљи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 етичког становишта труднице су вулнерабилна популација, па их фармакокинетичке студије веома ретко укључу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- дистрибуција лекова у млеко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истрибуција лекова у млеко обавља се у највећој мери пасивном дифузиј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фактори који утичу су везивање лека за протеине плазме у крви мајке, везивање лека за протеине млека, садржај масти у млеку и физичко-хемијске карактеристике лек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O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нос концентрација лека у млеку и плазми је познат за већину лекова и користи се за процену дневне количине лека која доспе до новорођенчета/одојчета преко мајчиног млека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(ID - infant daily dose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ID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mg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/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 C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mg/ml) ×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M/P × Vm (ml/kg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просечна концентрација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а у плазми мајке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/P*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– однос концентрација у млеку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(M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 плазми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(P)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V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мајчиног млека коју дете попије током једног дана (обично око 150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l/kg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M/P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се заснива на вредностима површина испод криве концентрација/време, ако ј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&gt;1 –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 се акумулира у млек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- дистрибуција лекова у млеко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За процену безбедности дојења приликом примене лекова израчунава се релативн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ID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[ID (mg/kg) / TD (mg/kg)] x 100%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ID -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невна количина лека која доспе до новорођенчета/одојчета преко мајчиног млека,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– терапијска дневна доза мајк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рбитрарна граница је 10%: уз малобројне изузетке, вредности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мање од 10% сматрају се безбедним за де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езбедност дојења у највећој мери одређује елиминација леко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време полуелиминације вежине лекова код новорођенчета/одојчета је продужено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Процена безбедности доз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оличина подојеног млека </a:t>
            </a:r>
            <a:r>
              <a:rPr b="0" lang="sr-CS" sz="2400" spc="-1" strike="noStrike">
                <a:solidFill>
                  <a:srgbClr val="003d62"/>
                </a:solidFill>
                <a:latin typeface="Symbol"/>
                <a:ea typeface="Symbol"/>
              </a:rPr>
              <a:t>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0.15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L/kg/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ан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Арбитрарни лимит безбедности 10% - однос дозе одојчета и дозе мајке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)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mg/kg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Зависи од природе 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Литијум (80%), амјодарон (50%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Високо токсични лекови КИ (и мање од 10%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Цитотоксични леков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Ергот алкалоид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епарати злата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Имуносупресив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Моделовање проласка лека у млеко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Динамички модел дојења који се састоји од три одељка: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крв дојке, ткиво дојке, млеко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Физиолошки параметри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ткива и проток крви,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млека и унос млека, заједно са појединачним физиолошким параметрима и њиховом променљивошћу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едвиђање модела вредности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AU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0–24h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 млека и плазм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100" spc="-1" strike="noStrike">
                <a:solidFill>
                  <a:srgbClr val="006699"/>
                </a:solidFill>
                <a:latin typeface="Calibri"/>
              </a:rPr>
              <a:t>- фармакокинетика </a:t>
            </a:r>
            <a:r>
              <a:rPr b="0" lang="sr-RS" sz="3100" spc="-1" strike="noStrike">
                <a:solidFill>
                  <a:srgbClr val="006699"/>
                </a:solidFill>
                <a:latin typeface="Calibri"/>
              </a:rPr>
              <a:t>код новорођенчета/одојчета -</a:t>
            </a:r>
            <a:endParaRPr b="0" lang="en-US" sz="31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000" y="162828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псорп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иселост желуца је смањен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боље се апсорбују базни леков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ажњење желуца је успорен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реме до постизања максималне конц. лека у крви је продужено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еристалтика је неправилн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бим апсорпције је повећа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истрибу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рганизам садржи више воде и мање масти него одрасл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олумен дистрибуције хидрофилних лекова је повећан, а липофилних смање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протеина плазме је смањена и мањег афинитета за лекове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онцентрација слободног лека је увећан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100" spc="-1" strike="noStrike">
                <a:solidFill>
                  <a:srgbClr val="006699"/>
                </a:solidFill>
                <a:latin typeface="Calibri"/>
              </a:rPr>
              <a:t>- фармакокинетика </a:t>
            </a:r>
            <a:r>
              <a:rPr b="0" lang="sr-RS" sz="3100" spc="-1" strike="noStrike">
                <a:solidFill>
                  <a:srgbClr val="006699"/>
                </a:solidFill>
                <a:latin typeface="Calibri"/>
              </a:rPr>
              <a:t>код новорођенчета/одојчета -</a:t>
            </a:r>
            <a:endParaRPr b="0" lang="en-US" sz="31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аболиза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зревање метаболишућег система наступа тек око 8. месеца живота (код превремено рођених и касниј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ензим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развијају се различитом брзином, између 2. месеца и 3. године неки могу и превазићи метаболички капацитет одраслог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ензим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развијају се још спорије и неправилно, са израженим интер-индивидуалним варијацијам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злучива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зревање бубрежне функције наступа између 2. и 9. месеца (код превремено рођених значајно касниј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оворођенче старо 3 дана има ниво гломеруларне филтрације који износи 1/3 вредности одраслог, нормализација између 2. и 5. месе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тубуларна секреција развија се још касније,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ормализација тек између 7. и 9. месе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Клиренс лекова код дец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41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 одојчета и малог детет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иренс лека у односу на одрасле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59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2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34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59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-40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4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59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-6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6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Одлука о примени ле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чекиване користи по мајку и ризици за одојч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аћење општег статуса дете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лабије напредовање, иритација, сед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ојити непосредно пре примене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времени прекид дој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Поново почети дојење за 5 периода полуелиминације лека од престанка приме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Друга практична упутст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описивати најмању дозу која је ефикасн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абрати начин примене са мањим ризик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пр. предност дати слаборесорбујућим лаксативима (влакна) у односу на оне с надражајним дејств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абрати лек повољне фармакокинетик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пр. кратко полувреме елиминаци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Избегавати неселективну и без преке потребе примену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биљних лекова, дијететских суплемената и поливитаминских препарата (адултерације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мена лека прва 3-4 дана је обично безбедна због ограничене запремине подојеног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Друга практична упутства (2)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Узраст, телесна маса, клинички статус дете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едоношчад и новорођенчад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Клиничка нестабилност и поремећаји дигестивног тракт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обрени (лиценцирани) лекови у педијатриј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дуготрајна медик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оличина подојеног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ајчешће мала ако дојење траје дуже од 1 годи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Избегавати лекове који ремете стварање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alibri"/>
              </a:rPr>
              <a:t>Најчешће коришћени лекови у трудноћи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Лечење акутних стања која се могу погоршати трудноћ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главобоља, општи болови и болови, желудачни рефлукс, симптоми прехладе, мучнина и инфекције мокраћних путе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Лекови за најчешћа хронична ст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алергија, астма, стања штитасте жлезде, депресија, жене са трансплантираним органима, епилепс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Лечење постојећих ста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Бактеријске, вирусне или гљивичне инфекције, стања везана за трудноћу, попут гестацијског дијабетеса и хипертензи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  <a:ea typeface="Calibri"/>
              </a:rPr>
              <a:t>Категоризација ризика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Америчка управа за храну и лекове (ФД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Од 1979. </a:t>
            </a:r>
            <a:r>
              <a:rPr b="0" lang="sr-RS" sz="2400" spc="-1" strike="noStrike">
                <a:solidFill>
                  <a:srgbClr val="006699"/>
                </a:solidFill>
                <a:latin typeface="Calibri"/>
                <a:ea typeface="Calibri"/>
              </a:rPr>
              <a:t>до 2014. </a:t>
            </a: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- Категорије А, В, С, D, X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Од 2015. наративна категоризациј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1. Трудноћ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Преглед ризик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Клинички аспект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Подаци (код људи и експерименталних животиња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Регистри употребе лекова у трудноћи (ако је применљиво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2. Доје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3. Репродуктивни потенцијал за женски и мушки пол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апсорп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640"/>
            <a:ext cx="8064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тилитет гастроинтестиналног тракта у целини је непромењен у прва два, а успорен у трећем триместр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рН вредност желудачног сока је повећана током целе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оком трудноће, време до постизања максималне концентрације орално примењеног лека обично је продужено, а максимална концентрација у крви сниже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 посебног значаја у примени лекова у појединачној дози, од којих се очекује брзо деловање (нпр. аналгетици и антиеметици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Биорасположивост лекова може бити и смањена и повећа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орално примењене лекове зависи од активности метаболишућих ензима током првог пролаза кроз јетр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парентерално примењене лекове зависи од начина примене: током трудноће расте прокрвљеност коже, а смањује се прокрвљеност мишић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елесна маса током трудноће раст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особе нормалне ухрањености пораст обично износи од 10 до око 17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следица је како повећања телесне течности, тако и повећања масног ткив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3d62"/>
                </a:solidFill>
                <a:uFillTx/>
                <a:latin typeface="Calibri"/>
              </a:rPr>
              <a:t>Повећање телесне течности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Укупна количина екстрацелуларне течности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ECF, extracellular flui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 укупна количина воде у организм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TBW, total body water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раст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већање зависи од телесне тежине и креће се од 35% до 65% з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ECF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односно од 10% до 25% з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TBW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оводи до повећања волумена дистрибуције хидрофилних лекова, чиме се повећава доза коју треба дати за постизање жељене концентр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у трудноћ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оже се израчунати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р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 (l) = TBW (l) + 0.275 x GA+ 0.0024 x GA</a:t>
            </a:r>
            <a:r>
              <a:rPr b="1" lang="en-US" sz="24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укупна количина воде у организму жене пре трудноће и израчунава се као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TBW (l) = -2.097 + 0.1069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висина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(cm)+ 0.2466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тежина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(kg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A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estational age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је трудноћа у недеља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ECF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у трудноћ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оже се израчунати као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ECFp (l) = ECF (l) + 0.0187 x GA+ 0.0016 x GA</a:t>
            </a:r>
            <a:r>
              <a:rPr b="1" lang="en-US" sz="24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ECF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укупна количина екстрацелуларне течности пре трудноће и може се проценити као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ECF (l) =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тежина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0.6469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висина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0.7236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x 0.02154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олумен дистрибуције хидрофилних лекова у трудноћи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проценити на основу вредности укупне количина екстрацелуларне течност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ECF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, укупна количина воде у организму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 и с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ободне фракције лека у плазми*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Fp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Vd = ECF + Fp x (TBWp – ECF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*у трудноћи се значајно мења само за лекове који се везују за албу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3d62"/>
                </a:solidFill>
                <a:uFillTx/>
                <a:latin typeface="Calibri"/>
              </a:rPr>
              <a:t>Повећање масног ткива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епозит додатног масног ткива скоро у потпуности се одвија у другом триместру и износи у просеку око 4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 процесу учествује хормон лептин, који иначе регулише апетит и депоновање масти, а у трудноћи се лучи у плацент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лесна маса без масног ткива* у трудноћи може се израчунати на основу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TFF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р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= TFFM - 0.0474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x 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GA+ 0.0034 x GA</a:t>
            </a:r>
            <a:r>
              <a:rPr b="1" lang="nb-NO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nb-NO" sz="2000" spc="-1" strike="noStrike">
                <a:solidFill>
                  <a:srgbClr val="003d62"/>
                </a:solidFill>
                <a:latin typeface="Calibri"/>
              </a:rPr>
              <a:t>TFF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телесна маса без масног ткива код жена пре трудноће и израчунава се као </a:t>
            </a:r>
            <a:r>
              <a:rPr b="1" lang="pl-PL" sz="2000" spc="-1" strike="noStrike">
                <a:solidFill>
                  <a:srgbClr val="003d62"/>
                </a:solidFill>
                <a:latin typeface="Calibri"/>
              </a:rPr>
              <a:t>(9270 x TBW) / (8780 + 244 x BMI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A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estational age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је трудноћа у недеља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BMI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је индекс телесне масе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Body Mass Index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ји се израчунава као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тежина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(kg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/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 (висина(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m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))</a:t>
            </a:r>
            <a:r>
              <a:rPr b="0" lang="en-US" sz="20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* од значаја је за дозирање лекова који су хидрофилни, утицај повећања масног ткива на дистибуцију липофилних лекова у трудноћи још увек није довољно позна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User</cp:lastModifiedBy>
  <dcterms:modified xsi:type="dcterms:W3CDTF">2020-09-26T17:31:28Z</dcterms:modified>
  <cp:revision>560</cp:revision>
  <dc:subject/>
  <dc:title>Fluid &amp; Electrolytes Management</dc:title>
</cp:coreProperties>
</file>